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0870D-8124-468D-8268-94473246CF0F}" type="datetime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03F8D-2F3E-4AE9-9637-E2D5D66C4E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tte session présente sous une forme condensée l’ensemble des preuves qui seront mises à la disposition des particip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84EE8-1158-4C9A-BFA9-E194C052CD9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dix premiers e-mails correspondent aux échanges qui ont eu lieu entre les responsables et employés de la FBA et d’UBP qui se sont occupés des transactions et du contrat relatifs à l’impression des obligations annivers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contrat FBA – UBP établi à la suite de ces échanges donne un aperçu du cadre commercial dans lequel a été conclu le marché et contient des dispositions qui vont être cruciales dans la suite du développement de l’aff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8C6A3-58D8-4DA3-AB5D-DE66BF92F0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s relevés bancaires suivent la chronologie de l’affaire. Les participants pourront appliquer le principe consistant à « suivre l’argent » en analysant les relevés bancaires de la FBA et d’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facture pro forma est une facture légitime présentée à la FBA par UBP pour un paiement anticipé de 100 000 €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88025-10E6-46DB-BC15-C57CE85AAD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a deux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FB50F-E48E-44D9-9D99-C4F3844AECC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onzième e-mail et les échanges suivants sont les outils de la perpétration. Ils ont été rédigés par l’auteur de l’infraction et incluent les éléments nécessaires pour l’analy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fausse facture a été établie par l’auteur et dirige le transfert d’argent vers un compte bancaire bien réel, mais ouvert à des fins fraudule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904A8-9897-489B-9793-2396C0880C8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épositions des chefs de départements de la FBA impliqués dans l’affaire à différents stades. Les dépositions les plus importantes sont celles du département financier et du département informatique car elles donnent des indices ou des explications sur la manière dont l’infraction a été perpétré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9CA81-B7A5-4D69-B244-36AA888CE1E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sur la trois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9E6DB-8295-43DF-863C-2AFCFAC27A0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DFA95-87A7-4896-8E98-4B8B492130D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4FCED-620C-46F8-B047-2F16727B251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première partie du diaporama expose les faits initiaux contenus dans les documen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deuxième partie présente la structure de l’affa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troisième partie est consacrée à la perpétration de l’infr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quatrième partie fournit les éléments de base pour le début des investigations et du travail des participa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cinquième et dernière partie fait la synthèse de tous les éléments présenté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D35A2-4576-44E6-8A01-26F8BEE07E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ns un premier temps, le travail d’investigation se fera en groupes, à partir des éléments fournis dans les supports de l’étude de c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A3200-1F60-450E-A5F6-7BA24DEC88B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sur la quatrièm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DDBC1-EB67-435C-B972-314C9C171A7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21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14974-AB79-4A3E-AA0C-590B00F1CB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e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0255B-6831-49A0-8BCD-76DCFC8BE7F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6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AEF29D-E164-485C-8212-81478C6C7B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scénario met en scène la Federal Bank of Atlantis (FBA) présentée comme une banque internationale ancienne et à la réputation bien établie. La description qui en est faite devrait amener les participants à conclure que ce type de banque devrait en principe être à l’abri des problèmes, a fortiori tels que ceux qui seront décrits plus loin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84C46-8A93-45E1-BCF9-628F52D7674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fil des entreprises impliquées dans le scénario de l’étude de cas. Trois documents Word en format 97-2003 sont inclus dans les supports. Ils seront mis à la disposition des participants en version papier ou en version électronique si les circonstances le permettent et si tous les participants ont un accès individuel à un ordinat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E0C30-A77E-4AC9-8725-F5FA778893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cuments connexes. Les supports contiennent trois documents Word en format 97-2003. Ils seront mis à la disposition des participants en version papier ou en version électronique si les circonstances le permettent et si tous les participants ont un accès individuel à un ordinat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C41F9-A227-40B7-8FD8-B181A4ECE4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formateur demande aux participants s’ils ont des questions concernant la première partie du co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88A69-60BF-487F-95A3-7DC24EA80C3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0D6-4ACB-4730-8B59-CDFCE3D8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80D-2DCE-43E1-9B7B-0D58E3CD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579-1E7B-4B9B-A730-1F9C97BF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76B-74A7-4355-8549-D72E0681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A884-A91D-4C51-AA19-ECF65B3C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EE11-3063-40DA-875A-1BC93803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7401-05F7-403E-8D65-461E4071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D1EA-8E65-4A0F-81D9-B4C17C3A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733A-B081-4807-B82A-9B81EB3D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73F2-7C01-4640-8026-1861CB19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8038-046C-4C20-A0A5-EC0A178F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EAB-D40B-4209-9B0D-F5EA11FB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70E0-829E-4CDF-8114-3DAD1A51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D46A-E200-48AD-B707-DAFA5339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1381-8409-4F33-AAF9-11AF95A5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A197-2CDC-48AC-9B59-945DC6BE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F7F7-996E-48BD-87B2-936F16FF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8D7-B4CD-41F1-898B-BAA11EC6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6FB-174C-4AF2-9E55-DEEF3EF9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DAC-2C7F-43E4-95A0-CB71FCF1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24B-9B3C-4E6D-948F-93D065E1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8AF3-D020-4633-8121-0E52FD4D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128-CCF9-4218-A4DF-40F4741D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CCD-BB65-454B-948A-1B96CDAD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33039-8428-4732-9827-B7B4EB17400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BDCB3-9FEB-4B66-9AE8-2793E65B3FD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97558-36D5-4C3A-A53E-DC3100B1E386}" type="datetime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4451C-F4D1-4D3A-8425-96C022A787D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ybercriminalité : formation complémentaire pour les juges et les procur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Session 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ésentation générale des preuves relatives à l’étude de 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658E3-60FF-46C3-A2C2-D3542E241B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44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-mails</a:t>
            </a:r>
            <a:r>
              <a:rPr b="1" i="1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Échange d’emails entre la FBA et l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e-mails fournis suivent la chronologie des échanges entre les donneurs d’ordre et les responsables de l’émission de l’obligation anniversaire au sein de la FBA et d’UBP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ocuments et rapports »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 contrat entre la FBA et UBP donne un éclairage supplémentaire et permet une analyse plus poussée, mais il sert aussi de preuve à l’appui du doss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éveloppement de l'aff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65001-2EF2-4488-B5D7-0F68DA872D8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relevés bancaires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levé bancaire de la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e nombreuses transactions y figurent, parmi lesquelles le paiement anticipé de 100 000 EUR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levé bancaire d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a Docklands Securities Bank of Norland gère les transactions bancaires d’United Bank Printing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Facture pro-forma d’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une facture pro forma d’un montant de 100 000 EUR a été présentée à la FBA par UP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9B242-87E6-435C-BFBB-28DE1AAF3B7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05F61-BABA-425B-B2A5-5C82737DA0C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6228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artie 3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erpétration - preuves et dépositions de témo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03134-8643-4C81-926B-D83488DDA68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erpé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-mails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 onzième e-mail et l’échange qui suit est le moment clé de la perpétration de l’infraction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Relevés bancaires »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a fausse facture d’UBP contient les coordonnées d’un compte bancaire frauduleux et demande le règlement du solde restant dû de 200 000 EUR pour finaliser l’impression des 20 000 obligatio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833C1-8273-4D85-AF6A-F4C0FED70B1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erpé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épositions de témoins »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de la Logistique et des opérations (DLO) de la FBA 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financier de la FBA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partement informatique de la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EB78CC-039F-44F8-9B59-A760A248F1C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C801A-6A7B-4F8F-9C18-3712B7BE30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Quatrième partie :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EB060-7053-41A1-843E-0085334F6C4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nace persistante avanc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type de piratage informatique continu et furtif, souvent orchestré par une personne ou un groupe de personnes ciblant une entité spécifique »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1A618-07ED-4DEE-A568-9CD6A3B27D7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rypto-monna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ctif numérique conçu pour fonctionner comme un moyen d’échange qui utilise la cryptographie pour sécuriser les transactions et contrôler la création d’unités supplémentaires de la devise »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2E63D-BCF5-463D-BBF4-3583B3444EA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Premièr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Introduction et faits initiau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Deux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Trois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erpétration et dépositions de témo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Quatrième par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Cinquième parti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ésum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87000-CF13-4B77-B7C7-02AD447EEF2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Gloss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anipulation psychologique en ligne (Cyber Social Engineer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« 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type d'escroquerie ayant pour but la collecte d’informations, le détournement de fonds ou l’accès à un système ; elle diffère des formes traditionnelles d’escroquerie en cela qu’elle s’inscrit souvent dans un stratagème de fraude plus vaste et plus complex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3098880" y="4782960"/>
            <a:ext cx="29462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30E54-C635-4F11-899E-8388D9052AF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FED50-67C4-42BB-B18E-FD4E13EFBD6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353960"/>
            <a:ext cx="85122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À l’issue de cette session, les participants devraient avoir atteint les objectifs suivant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’introduction et les premiers éléments de l’affaire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e développement de l’affaire en analysant les preuves électroniques et matérielles présenté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uivre la perpétration proprement dite et trouver d’autres faits dans les dépositions de témoi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nnaître les termes et définitions-clés relatifs aux outils de la cybercriminalité, dont ceux utilisés en l’espè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bjectifs de la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811C7-8C81-40D4-9C53-D04C08FD70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45FC4-60CA-487B-A403-15731EBE436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353600"/>
            <a:ext cx="8512200" cy="509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À l’issue de cette session, les participants devraient avoir atteint les objectifs suivant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’introduction et les premiers éléments de l’affair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mprendre le développement de l’affaire en analysant les preuves électroniques et matérielles présentées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uivre la perpétration proprement dite et trouver d’autres faits dans les dépositions de témoi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onnaître les termes et définitions-clés relatifs aux outils de la cybercriminalité, dont ceux utilisés en l’espè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Objectifs de la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8DA59-065A-4E14-BC27-869FC0CE5D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artie 1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Introduction et 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83F12-D803-4F5C-ABBC-581F84C36F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»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Synopsis de l’étude de 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cénario de l’étude de cas correspond au phénomène récent des attaques dites « BEC » pour « Business E-mail Compromise » (piratage de la messagerie d'entreprise), dérivées des escroqueries « au président » ou au « faux-intermédiaire » déjà connu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mpleur de ces escroqueries est énorme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0D762-F213-43F6-B425-FFA34AF0A57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044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profils »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rofil de l’entreprise Doc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sentation générale, structure et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18710-F08F-4CCE-B867-A7F4D73E942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Dossier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Documents et rapports »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nnonce de l’obligation anniversaire par la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décision du conseil d’administration d’émettre des obligations et éléments financiers correspondant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ligation annivers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maquette de l’obligation, y compris éléments imprimés 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ontrat FBA –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contrat d’impression de 20 000 éléments pour l’obligation anniversaire de la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Faits initia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28108-5D82-4842-83A0-265195C976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71880" y="4500720"/>
            <a:ext cx="30812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9EB5D2-7C16-4826-B4DF-67ADF58A68E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artie 2 :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éveloppement de l’affa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cp:keywords/>
  <dc:language>en-US</dc:language>
  <cp:lastModifiedBy>CAROLINE MARTIN</cp:lastModifiedBy>
  <dcterms:modified xsi:type="dcterms:W3CDTF">2018-06-01T08:13:37Z</dcterms:modified>
  <cp:revision>187</cp:revision>
  <dc:subject/>
  <dc:title>Introductory Cybercrime Training for Judges and Prosecutors</dc:title>
</cp:coreProperties>
</file>